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D480-5F6C-4F6B-8C40-84512E480457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71F7-125A-473C-9459-AB8D635A1B01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8205-8CFA-4C95-9D62-3E9F0A4E249C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0481-F774-4EAE-8046-675499246C12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C8AC-62D8-4225-ADC7-95C68E798206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AB5D-6332-410A-9788-77E7846BA595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FBD3-BB25-48F0-82F4-8A8C950E9370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0122-2413-4DD0-96E1-6F477279E6E1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48AE-8DBB-492C-9848-C853873677C4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354F-D151-4C1B-AC2F-355C461D3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7593-B0AA-49E5-BC01-27023D1B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3C8D89-B336-413E-93DB-3567A60A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0A6413-0CE7-465F-AAE7-9750B9D4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73A3D-B2A4-4417-9B27-7AB5813C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2148D-A064-4F7E-956E-B348426E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0601F-0B04-44FD-AE69-F188C904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D1F53-752E-4BD5-8C96-64BA7C23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2488CB-3E11-4CA1-BB77-6A851FB6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7AF48E-71D6-40DE-BCB1-2569C3B16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44F1D-8B85-4AD8-8840-6005EAB8A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57A0-73CF-4FF0-876D-88AE1D28B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276F-7A3C-4181-8EB0-B82989F7C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3B6F-D71F-4049-8E03-84F7B2D8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1639-0605-4CBE-8F85-B6DC1EDB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1881-0895-46F8-8CC7-20263F69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FDB8-F9CA-46C5-91A8-D6B73D9C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5F02-C5CA-4570-BF19-0ABDEB40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6240-DB7A-455C-9EF6-0CEEF591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01E7-0FED-4E6F-A612-D1FC4AE5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499D-B536-4B14-8F99-DFCCF3A3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9D90-1D5E-4497-828D-71A7C666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8C6E-7C91-4BD5-B05F-5A6F1C2B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FC4C-95D9-481B-8788-7810123B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4807-7F0B-4AE6-90AE-CB697072C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9004-3CB7-4DAB-8A6D-B48C8CFD4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D3895-7291-43BB-AC2F-07EB1CBEE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C989E-380E-476E-B148-6505DC97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F24AC-05EB-49B5-9646-A8187A1B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B66E6-9175-49FA-B845-5410BDF9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F5CCA-3F38-44AE-8511-19A2EA20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5172-7165-461D-8922-CA1016AA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CDEAB-6150-46EF-8598-A1301768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81818-6131-4546-A1C5-009A83AD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0AD76-223F-44D3-9C56-59CA7BD7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B6D29-CE3A-44C8-B240-0867FC77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1EB84-D42B-4143-A34E-4435E373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AF869-1CA0-4329-9033-85B26BA31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94611-51EC-49DE-ADA8-FC5F5D95A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BB4F9-3CEA-44B6-8625-AE1AADCC8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1C37F-8890-45F9-8D20-3648B252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5B16A-26DB-47B3-9BE2-4DBA2CCA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A482-6CFA-4929-A0C6-C8E34BB8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0CB96-F76C-4127-894E-4165E48F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6B040-4C3B-4FE6-BDA4-5D3BF191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E7F7F-F414-4C30-B952-3D8AF675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77F8A-6D29-46A1-81C5-DFE32544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03568-BD53-4215-80FD-19A88A94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95445-A2AA-4D20-A17C-8A8A187F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3C561-ED51-4171-A7EA-5ACB0046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8C631-35E1-4F1C-B4B6-AE423BD3F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35778-BFBE-45D8-B591-2D2294519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E1BB9-83F8-46F9-9EC4-4DC678F2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4488-D3A7-4DA7-9390-C939258D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A65A4-D71C-4545-B0AA-ABAC257F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0C31B-4C42-4213-B1BB-A24A751F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E4A92-2EAD-4255-9F74-AA7EA133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51866-68C5-410E-A830-E44916CB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4F04D-731D-4A7F-9FEF-5D1D7215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14EE4-7C86-4F18-86F4-B9E2E9EC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1797C-6C20-4D34-9F68-EDB40FAA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2CB8F-2B8B-4080-8D98-36494ACD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AC883-832F-4624-A370-A09B2467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66AB3-BC49-4071-B2A4-3AB49BE4E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9375-13F8-4E39-9D4D-6A7D0158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BE696-2F92-4726-8BCA-A2D56803D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1D436-56AC-4242-B4EF-70FCDDEAC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77AC8-6D42-4E2E-A73F-1571CD9F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F7E74-A7F9-414D-992E-6992D8D0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67C4E-49C0-4773-92E0-205B8CF7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2CE48-045D-4872-9DEB-A9C7FCD1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9AA9F-7A04-4775-9A00-D1FF6DF2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E156E-8369-4BEB-B9B2-37BCE01B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9D93E-0337-455B-A800-67FB107A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41863-AC01-4E06-818B-E8A60BA5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8BE8-FCDE-4063-B282-71667C37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1A855-FEA4-4F3D-AF8A-0F738173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4A861-B852-4D6F-B833-D83516A19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DE5EB-D705-433B-9421-9F01968DC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F2536-D0D7-4150-8AC3-5C3FAF8E0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3B061-F01C-47E4-86DA-50AE6FE3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1679A-A29E-476A-87E4-BAB02E6E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F221A-1B95-497D-B685-6FB39F9B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1EBC2-B583-4230-97EF-61E9EF96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C381F-85E2-4EE2-B752-AADB8F73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942FD-093E-4A1D-A126-732774B3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FBD9-121F-42E5-8BF6-E340D8E5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A2E08-315C-4728-94E2-ADD3E965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25588-CD72-4402-8653-E7613691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5BE93-B689-4158-AFAE-809CCB73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485A1-72E1-4B73-8EDC-96B21636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78878-8EC9-449E-9AE9-0E74CA144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88A50-4A53-42E5-9779-83DD3CAAA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DEE3D-ECD9-4F36-B073-461F35D5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4C560-0731-48B1-A7AC-D4A3E02E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76FFE-2A9D-40DC-BB89-30EC1100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2C43B-BC64-4F8D-9997-3AE83008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4708-2841-4A0D-B150-8C0233A5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798AA-8A6B-455C-A0E5-7E45EF72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C326A-0C9E-49A4-A472-37251E44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222AE-1FE9-4E2E-BE51-76DC3DD7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A42DC-886D-4860-B8F5-70B1E788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6757A-08A6-49F6-A7F5-E7B036F9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33BBD-9DE6-4BBC-9654-D3AEABF42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BB4A0-CFA9-4D68-A014-179E59AB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0DBF6-A8F5-40DA-B9D7-0C3A1ED6E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52B60-DAF8-4033-BEEC-C102EAE5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F102D-7C38-49EF-9378-6E82B767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uora yhdysviiva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uora yhdysviiva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A7D6-898B-4B23-B0F8-E8A6854CC5CC}" type="slidenum">
              <a:rPr b="0" lang="fi-FI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grpSp>
        <p:nvGrpSpPr>
          <p:cNvPr id="8" name="Suora yhdysviiva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uora yhdysviiva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uora yhdysviiva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uora yhdysviiva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uora yhdysviiva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uora yhdysviiva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2090-FB5B-4406-8221-D222847C1937}" type="slidenum">
              <a:rPr b="0" lang="fi-FI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uora yhdysviiva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uora yhdysviiva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uora yhdysviiva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uora yhdysviiva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uora yhdysviiva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uora yhdysviiva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9A23-294D-46E3-B43B-76D6B6DEAA46}" type="slidenum">
              <a:rPr b="0" lang="fi-FI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uora yhdysviiva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uora yhdysviiva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3B65-C1DE-4E28-83D8-8B7445970054}" type="slidenum">
              <a:rPr b="0" lang="fi-FI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uora yhdysviiva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uora yhdysviiva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1508-0BB2-4434-8DA0-E0B5059AE638}" type="slidenum">
              <a:rPr b="0" lang="fi-FI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AACF-2AB7-4146-9231-29A419F40AED}" type="slidenum">
              <a:rPr b="0" lang="fi-FI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uora yhdysviiva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uora yhdysviiva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524F-D656-4C4A-AE38-A334F5D87F76}" type="slidenum">
              <a:rPr b="0" lang="fi-FI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F7DD-829B-4964-901C-6B9F2189A390}" type="slidenum">
              <a:rPr b="0" lang="fi-FI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B3C9-94DB-470E-8E22-E3539A74EF6C}" type="slidenum">
              <a:rPr b="0" lang="fi-FI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Otsikko 1" descr=""/>
          <p:cNvPicPr/>
          <p:nvPr/>
        </p:nvPicPr>
        <p:blipFill>
          <a:blip r:embed="rId1"/>
          <a:stretch/>
        </p:blipFill>
        <p:spPr>
          <a:xfrm>
            <a:off x="725400" y="476280"/>
            <a:ext cx="7980480" cy="20779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"/>
          <p:cNvPicPr/>
          <p:nvPr/>
        </p:nvPicPr>
        <p:blipFill>
          <a:blip r:embed="rId2"/>
          <a:stretch/>
        </p:blipFill>
        <p:spPr>
          <a:xfrm>
            <a:off x="1928880" y="2357280"/>
            <a:ext cx="5167080" cy="38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Otsikk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9" name="Tekstikehys 3"/>
          <p:cNvSpPr/>
          <p:nvPr/>
        </p:nvSpPr>
        <p:spPr>
          <a:xfrm>
            <a:off x="536040" y="1857240"/>
            <a:ext cx="7998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gneettisuus keskittyy  magneetin päih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ita sanotaan navoik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gneetilla on kaksi napaa, pohjoisnapa ja eteläna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amannimiset navat hylkivät toisi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rinimiset navat vetävät toisiaan puoleen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gneettisia aineita ovat rauta, koboltti ja nikk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2643120" y="4929120"/>
            <a:ext cx="32148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"/>
          <p:cNvPicPr/>
          <p:nvPr/>
        </p:nvPicPr>
        <p:blipFill>
          <a:blip r:embed="rId1"/>
          <a:stretch/>
        </p:blipFill>
        <p:spPr>
          <a:xfrm>
            <a:off x="2143080" y="3429000"/>
            <a:ext cx="3300480" cy="2682720"/>
          </a:xfrm>
          <a:prstGeom prst="rect">
            <a:avLst/>
          </a:prstGeom>
          <a:ln w="0">
            <a:noFill/>
          </a:ln>
        </p:spPr>
      </p:pic>
      <p:sp>
        <p:nvSpPr>
          <p:cNvPr id="412" name="Tekstikehys 2"/>
          <p:cNvSpPr/>
          <p:nvPr/>
        </p:nvSpPr>
        <p:spPr>
          <a:xfrm>
            <a:off x="1098360" y="1143000"/>
            <a:ext cx="6925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uetta, jossa magneettinen vuorovaikutus vaikutta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anotaan magneettikentäk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gneettikenttää kuvataan kenttäviivoil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Kenttäviivat kulkevat pohjoisnavasta etelänap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kstikehys 2"/>
          <p:cNvSpPr/>
          <p:nvPr/>
        </p:nvSpPr>
        <p:spPr>
          <a:xfrm>
            <a:off x="3135960" y="357120"/>
            <a:ext cx="27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Kenttäviivakok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Kuva 4" descr="magneetin kenttäviivat,samat navat.png"/>
          <p:cNvPicPr/>
          <p:nvPr/>
        </p:nvPicPr>
        <p:blipFill>
          <a:blip r:embed="rId1"/>
          <a:stretch/>
        </p:blipFill>
        <p:spPr>
          <a:xfrm>
            <a:off x="5000760" y="1500120"/>
            <a:ext cx="2857320" cy="1825560"/>
          </a:xfrm>
          <a:prstGeom prst="rect">
            <a:avLst/>
          </a:prstGeom>
          <a:ln w="0">
            <a:noFill/>
          </a:ln>
        </p:spPr>
      </p:pic>
      <p:pic>
        <p:nvPicPr>
          <p:cNvPr id="415" name="Kuva 5" descr="magneetin kenttäviivat.png"/>
          <p:cNvPicPr/>
          <p:nvPr/>
        </p:nvPicPr>
        <p:blipFill>
          <a:blip r:embed="rId2"/>
          <a:stretch/>
        </p:blipFill>
        <p:spPr>
          <a:xfrm>
            <a:off x="571680" y="1428840"/>
            <a:ext cx="3071520" cy="2062080"/>
          </a:xfrm>
          <a:prstGeom prst="rect">
            <a:avLst/>
          </a:prstGeom>
          <a:ln w="0">
            <a:noFill/>
          </a:ln>
        </p:spPr>
      </p:pic>
      <p:sp>
        <p:nvSpPr>
          <p:cNvPr id="416" name="Tekstikehys 6"/>
          <p:cNvSpPr/>
          <p:nvPr/>
        </p:nvSpPr>
        <p:spPr>
          <a:xfrm>
            <a:off x="5217840" y="3786120"/>
            <a:ext cx="40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amannimiset navat vastakk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kstikehys 8"/>
          <p:cNvSpPr/>
          <p:nvPr/>
        </p:nvSpPr>
        <p:spPr>
          <a:xfrm>
            <a:off x="571680" y="3929040"/>
            <a:ext cx="37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erinimiset navat vastakk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kstikehys 1"/>
          <p:cNvSpPr/>
          <p:nvPr/>
        </p:nvSpPr>
        <p:spPr>
          <a:xfrm>
            <a:off x="3082320" y="1071720"/>
            <a:ext cx="33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autanaulan magnetoi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kstikehys 3"/>
          <p:cNvSpPr/>
          <p:nvPr/>
        </p:nvSpPr>
        <p:spPr>
          <a:xfrm>
            <a:off x="2019240" y="2214720"/>
            <a:ext cx="620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autanaula voidaan magnetoida sivelemällä sit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kestomagneetilla  samansuuntaisin vedo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kstikehys 5"/>
          <p:cNvSpPr/>
          <p:nvPr/>
        </p:nvSpPr>
        <p:spPr>
          <a:xfrm>
            <a:off x="1659600" y="5357880"/>
            <a:ext cx="53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gneettisuus voidaan poistaa takomal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ai kuumentama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714240" y="3286080"/>
            <a:ext cx="2071800" cy="1295280"/>
          </a:xfrm>
          <a:prstGeom prst="rect">
            <a:avLst/>
          </a:prstGeom>
          <a:ln w="0">
            <a:noFill/>
          </a:ln>
        </p:spPr>
      </p:pic>
      <p:sp>
        <p:nvSpPr>
          <p:cNvPr id="422" name="Tekstikehys 7"/>
          <p:cNvSpPr/>
          <p:nvPr/>
        </p:nvSpPr>
        <p:spPr>
          <a:xfrm>
            <a:off x="3079440" y="3357720"/>
            <a:ext cx="560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ällöin raudan pienoismagneetit järjestyvät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3" descr=""/>
          <p:cNvPicPr/>
          <p:nvPr/>
        </p:nvPicPr>
        <p:blipFill>
          <a:blip r:embed="rId2"/>
          <a:stretch/>
        </p:blipFill>
        <p:spPr>
          <a:xfrm>
            <a:off x="3643200" y="3929040"/>
            <a:ext cx="450072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Otsikk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5" name="Tekstikehys 2"/>
          <p:cNvSpPr/>
          <p:nvPr/>
        </p:nvSpPr>
        <p:spPr>
          <a:xfrm>
            <a:off x="2045160" y="1428840"/>
            <a:ext cx="720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un kompassineulan päälle asetetaan sähköjohdi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ja johtimeen kytketään sähkövirta, kompassine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eilahtaa. Sähkövirta aiheuttaa magneettikentä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kstikehys 3"/>
          <p:cNvSpPr/>
          <p:nvPr/>
        </p:nvSpPr>
        <p:spPr>
          <a:xfrm>
            <a:off x="1643040" y="2643120"/>
            <a:ext cx="710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akenna sähkömagneett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arvits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ää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autasydä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johtim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asavirtaläht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Kuva 4" descr="magneetti sähkö.jpg"/>
          <p:cNvPicPr/>
          <p:nvPr/>
        </p:nvPicPr>
        <p:blipFill>
          <a:blip r:embed="rId2"/>
          <a:stretch/>
        </p:blipFill>
        <p:spPr>
          <a:xfrm>
            <a:off x="0" y="1214280"/>
            <a:ext cx="1571760" cy="5072400"/>
          </a:xfrm>
          <a:prstGeom prst="rect">
            <a:avLst/>
          </a:prstGeom>
          <a:ln w="0">
            <a:noFill/>
          </a:ln>
        </p:spPr>
      </p:pic>
      <p:pic>
        <p:nvPicPr>
          <p:cNvPr id="428" name="Kuva 5" descr="käämi.gif"/>
          <p:cNvPicPr/>
          <p:nvPr/>
        </p:nvPicPr>
        <p:blipFill>
          <a:blip r:embed="rId3"/>
          <a:srcRect l="23780" t="24391" r="41468" b="21955"/>
          <a:stretch/>
        </p:blipFill>
        <p:spPr>
          <a:xfrm>
            <a:off x="6143760" y="3071880"/>
            <a:ext cx="11109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Kuva 1" descr="sähkömagneetti2.gif"/>
          <p:cNvPicPr/>
          <p:nvPr/>
        </p:nvPicPr>
        <p:blipFill>
          <a:blip r:embed="rId1"/>
          <a:stretch/>
        </p:blipFill>
        <p:spPr>
          <a:xfrm>
            <a:off x="5619600" y="214200"/>
            <a:ext cx="2381400" cy="1785960"/>
          </a:xfrm>
          <a:prstGeom prst="rect">
            <a:avLst/>
          </a:prstGeom>
          <a:ln w="0">
            <a:noFill/>
          </a:ln>
        </p:spPr>
      </p:pic>
      <p:sp>
        <p:nvSpPr>
          <p:cNvPr id="430" name="Tekstikehys 3"/>
          <p:cNvSpPr/>
          <p:nvPr/>
        </p:nvSpPr>
        <p:spPr>
          <a:xfrm>
            <a:off x="871920" y="857160"/>
            <a:ext cx="4463640" cy="13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seta rautasydän käämin sisäl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okeile vaikuttaako rautasydä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ikkunauloihin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kstikehys 4"/>
          <p:cNvSpPr/>
          <p:nvPr/>
        </p:nvSpPr>
        <p:spPr>
          <a:xfrm>
            <a:off x="871560" y="3143160"/>
            <a:ext cx="4187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2. Kytke käämiin tasavir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okeile vaikuttaako rautasydän ny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ikkunauloih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kstikehys 5"/>
          <p:cNvSpPr/>
          <p:nvPr/>
        </p:nvSpPr>
        <p:spPr>
          <a:xfrm>
            <a:off x="589320" y="4500720"/>
            <a:ext cx="52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Rakenna kuvan mukainen sähkömagnee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Kuva 6" descr="sähkömagneetti,ies.gif"/>
          <p:cNvPicPr/>
          <p:nvPr/>
        </p:nvPicPr>
        <p:blipFill>
          <a:blip r:embed="rId2"/>
          <a:srcRect l="11931" t="6820" r="19887" b="18184"/>
          <a:stretch/>
        </p:blipFill>
        <p:spPr>
          <a:xfrm>
            <a:off x="5786280" y="4500720"/>
            <a:ext cx="2500560" cy="2062080"/>
          </a:xfrm>
          <a:prstGeom prst="rect">
            <a:avLst/>
          </a:prstGeom>
          <a:ln w="0">
            <a:noFill/>
          </a:ln>
        </p:spPr>
      </p:pic>
      <p:pic>
        <p:nvPicPr>
          <p:cNvPr id="434" name="Kuva 7" descr="sähkömagneetti1.gif"/>
          <p:cNvPicPr/>
          <p:nvPr/>
        </p:nvPicPr>
        <p:blipFill>
          <a:blip r:embed="rId3"/>
          <a:stretch/>
        </p:blipFill>
        <p:spPr>
          <a:xfrm>
            <a:off x="5786280" y="2286000"/>
            <a:ext cx="235764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Kuva 1" descr="magneetti sähkö.jpg"/>
          <p:cNvPicPr/>
          <p:nvPr/>
        </p:nvPicPr>
        <p:blipFill>
          <a:blip r:embed="rId1"/>
          <a:stretch/>
        </p:blipFill>
        <p:spPr>
          <a:xfrm>
            <a:off x="0" y="785880"/>
            <a:ext cx="1571760" cy="5072040"/>
          </a:xfrm>
          <a:prstGeom prst="rect">
            <a:avLst/>
          </a:prstGeom>
          <a:ln w="0">
            <a:noFill/>
          </a:ln>
        </p:spPr>
      </p:pic>
      <p:sp>
        <p:nvSpPr>
          <p:cNvPr id="436" name="Tekstikehys 2"/>
          <p:cNvSpPr/>
          <p:nvPr/>
        </p:nvSpPr>
        <p:spPr>
          <a:xfrm>
            <a:off x="3957120" y="500040"/>
            <a:ext cx="487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ähkömagneetin tehoon vaikutta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autasydä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äämin kierrosten lukumäär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ähkövirran suuru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kstikehys 4"/>
          <p:cNvSpPr/>
          <p:nvPr/>
        </p:nvSpPr>
        <p:spPr>
          <a:xfrm>
            <a:off x="2595600" y="2928960"/>
            <a:ext cx="421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ähkömagneetteja käytetää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nostureiss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vien sulkimi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ikrofoneis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iuttimis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4:08:30Z</dcterms:created>
  <dc:creator>Ritva Tamminen</dc:creator>
  <dc:description/>
  <dc:language>en-US</dc:language>
  <cp:lastModifiedBy>Ritva Tamminen</cp:lastModifiedBy>
  <dcterms:modified xsi:type="dcterms:W3CDTF">2009-04-29T16:11:04Z</dcterms:modified>
  <cp:revision>13</cp:revision>
  <dc:subject/>
  <dc:title>Magneettinen vuorovaikutis</dc:title>
</cp:coreProperties>
</file>